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611-9EC1-482D-A1AD-ED52DA72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65-9ABD-4B03-84D8-14D4240E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297-694A-4EB5-A196-A332AAA1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BCF-353A-432B-9003-67C42136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0F2-0F59-4231-BC79-411D3DCD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20B-F202-4BB4-ACB7-C8048A7F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443-E324-40D1-A900-CC7C5676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386-21FB-4533-83C2-5FB64201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52280"/>
            <a:ext cx="855648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AFD-4C68-47E3-B56D-6E4D062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F9D-8DBE-4314-B4D7-3B4D4D25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C04-5781-4266-91D5-10A24D4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40E-8FCC-46C9-82AB-281C7E3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D167-4CBE-4DA8-9C35-68C36639C0C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0240" y="52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SimSun"/>
              </a:rPr>
              <a:t>Classifying Instantaneous Cognitive States from fMRI Data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0840" y="237492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 Mitchell, Rebecca Hutchinson, Marcel Just, Stefan Niculescu, Francisco Pereira, Xuerui W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ember,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292-4AB5-4D5A-9704-35598C5192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30E-5953-490F-82DC-1B7F59F343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3530520"/>
            <a:ext cx="13968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920-8CAF-41CF-8225-0E2BA93765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s Subject Viewing Picture or Sentence?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4582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 subjects, 40 training trials (40 pics, 40 senten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97 - 2864 voxels per subject, 7 RO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RI snapshot taken every half seco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fMRI(t,t+8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{Picture, Sentenc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two out cross-validation was used to assess the performance of the class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Ms and GNB worked better than kN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F25-49F3-4D0D-8A32-8D72099389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5228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rror for Single-Subject Classif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" y="1141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640" y="1558800"/>
            <a:ext cx="9145080" cy="3358800"/>
            <a:chOff x="17640" y="1558800"/>
            <a:chExt cx="9145080" cy="3358800"/>
          </a:xfrm>
        </p:grpSpPr>
        <p:grpSp>
          <p:nvGrpSpPr>
            <p:cNvPr id="79" name=""/>
            <p:cNvGrpSpPr/>
            <p:nvPr/>
          </p:nvGrpSpPr>
          <p:grpSpPr>
            <a:xfrm>
              <a:off x="23040" y="1561680"/>
              <a:ext cx="9132480" cy="3353040"/>
              <a:chOff x="23040" y="1561680"/>
              <a:chExt cx="9132480" cy="33530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23040" y="1561680"/>
                <a:ext cx="2526120" cy="1067040"/>
                <a:chOff x="23040" y="1561680"/>
                <a:chExt cx="2526120" cy="10670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42200" y="1561680"/>
                  <a:ext cx="228744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040" y="1561680"/>
                  <a:ext cx="252612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49520" y="1561680"/>
                <a:ext cx="1320480" cy="1067040"/>
                <a:chOff x="2549520" y="1561680"/>
                <a:chExt cx="1320480" cy="1067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6796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4952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870360" y="1561680"/>
                <a:ext cx="1321200" cy="1067040"/>
                <a:chOff x="3870360" y="1561680"/>
                <a:chExt cx="1321200" cy="10670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98952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870360" y="1561680"/>
                  <a:ext cx="132120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192280" y="1561680"/>
                <a:ext cx="1320480" cy="1067040"/>
                <a:chOff x="5192280" y="1561680"/>
                <a:chExt cx="1320480" cy="10670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1072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9228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513480" y="1561680"/>
                <a:ext cx="1320480" cy="1067040"/>
                <a:chOff x="6513480" y="1561680"/>
                <a:chExt cx="1320480" cy="10670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3264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513480" y="1561680"/>
                  <a:ext cx="132048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834320" y="1561680"/>
                <a:ext cx="1321200" cy="1067040"/>
                <a:chOff x="7834320" y="1561680"/>
                <a:chExt cx="1321200" cy="1067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953480" y="1561680"/>
                  <a:ext cx="1082520" cy="10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4320" y="1561680"/>
                  <a:ext cx="1321200" cy="106704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040" y="2628720"/>
                <a:ext cx="2526120" cy="761760"/>
                <a:chOff x="23040" y="2628720"/>
                <a:chExt cx="2526120" cy="761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42200" y="2628720"/>
                  <a:ext cx="22874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040" y="2628720"/>
                  <a:ext cx="252612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49520" y="2628720"/>
                <a:ext cx="1320480" cy="761760"/>
                <a:chOff x="2549520" y="2628720"/>
                <a:chExt cx="1320480" cy="761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66796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4952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870360" y="2628720"/>
                <a:ext cx="1321200" cy="761760"/>
                <a:chOff x="3870360" y="2628720"/>
                <a:chExt cx="1321200" cy="761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98952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70360" y="2628720"/>
                  <a:ext cx="132120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192280" y="2628720"/>
                <a:ext cx="1320480" cy="761760"/>
                <a:chOff x="5192280" y="2628720"/>
                <a:chExt cx="1320480" cy="761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31072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19228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513480" y="2628720"/>
                <a:ext cx="1320480" cy="761760"/>
                <a:chOff x="6513480" y="2628720"/>
                <a:chExt cx="1320480" cy="761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63264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13480" y="262872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834320" y="2628720"/>
                <a:ext cx="1321200" cy="761760"/>
                <a:chOff x="7834320" y="2628720"/>
                <a:chExt cx="1321200" cy="761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53480" y="262872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834320" y="2628720"/>
                  <a:ext cx="132120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3040" y="3390480"/>
                <a:ext cx="2526120" cy="762120"/>
                <a:chOff x="23040" y="3390480"/>
                <a:chExt cx="2526120" cy="762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2200" y="3390480"/>
                  <a:ext cx="2287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040" y="3390480"/>
                  <a:ext cx="252612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549520" y="3390480"/>
                <a:ext cx="1320480" cy="762120"/>
                <a:chOff x="2549520" y="3390480"/>
                <a:chExt cx="1320480" cy="762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6796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4952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870360" y="3390480"/>
                <a:ext cx="1321200" cy="762120"/>
                <a:chOff x="3870360" y="3390480"/>
                <a:chExt cx="1321200" cy="762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98952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70360" y="339048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192280" y="3390480"/>
                <a:ext cx="1320480" cy="762120"/>
                <a:chOff x="5192280" y="3390480"/>
                <a:chExt cx="1320480" cy="7621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31072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9228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513480" y="3390480"/>
                <a:ext cx="1320480" cy="762120"/>
                <a:chOff x="6513480" y="3390480"/>
                <a:chExt cx="1320480" cy="7621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63264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513480" y="339048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834320" y="3390480"/>
                <a:ext cx="1321200" cy="762120"/>
                <a:chOff x="7834320" y="3390480"/>
                <a:chExt cx="1321200" cy="7621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953480" y="339048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34320" y="339048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3040" y="4152600"/>
                <a:ext cx="2526120" cy="762120"/>
                <a:chOff x="23040" y="4152600"/>
                <a:chExt cx="2526120" cy="762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200" y="4152600"/>
                  <a:ext cx="2287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 + 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3040" y="4152600"/>
                  <a:ext cx="252612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49520" y="4152600"/>
                <a:ext cx="1320480" cy="762120"/>
                <a:chOff x="2549520" y="4152600"/>
                <a:chExt cx="1320480" cy="7621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6796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4952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70360" y="4152600"/>
                <a:ext cx="1321200" cy="762120"/>
                <a:chOff x="3870360" y="4152600"/>
                <a:chExt cx="1321200" cy="7621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98952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870360" y="415260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192280" y="4152600"/>
                <a:ext cx="1320480" cy="762120"/>
                <a:chOff x="5192280" y="4152600"/>
                <a:chExt cx="1320480" cy="762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31072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9228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513480" y="4152600"/>
                <a:ext cx="1320480" cy="762120"/>
                <a:chOff x="6513480" y="4152600"/>
                <a:chExt cx="1320480" cy="762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63264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4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513480" y="415260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834320" y="4152600"/>
                <a:ext cx="1321200" cy="762120"/>
                <a:chOff x="7834320" y="4152600"/>
                <a:chExt cx="1321200" cy="762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953480" y="415260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34320" y="4152600"/>
                  <a:ext cx="132120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17640" y="1558800"/>
              <a:ext cx="9145080" cy="3358800"/>
            </a:xfrm>
            <a:prstGeom prst="rect">
              <a:avLst/>
            </a:prstGeom>
            <a:noFill/>
            <a:ln w="475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0" y="5106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3040" y="5268960"/>
            <a:ext cx="872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confidence intervals per subject are 10% - 15% lar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of default classifier is 5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DCA-02AD-4A42-9EBF-70871EC611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75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Can We Train Subject-Indep Classifiers?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6102" t="21834" r="20396" b="4710"/>
          <a:stretch/>
        </p:blipFill>
        <p:spPr>
          <a:xfrm>
            <a:off x="0" y="887400"/>
            <a:ext cx="5275440" cy="3954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52091" t="30649" r="1617" b="21071"/>
          <a:stretch/>
        </p:blipFill>
        <p:spPr>
          <a:xfrm>
            <a:off x="4202280" y="2489040"/>
            <a:ext cx="4767120" cy="3730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82C-D611-44A0-9785-EA1D26ED5BD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Training Cross-Subject Classifier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81057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: define supervoxels based on anatomically defined regions of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e per voxel activity for each su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value scaled now in [0,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to seven brain region supervox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snapshots for each supervox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 on n-1 subjects, test on 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one subject out cross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4A3-8E81-44FD-912D-A00FE0C8973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7640" y="1460520"/>
            <a:ext cx="9143640" cy="3359160"/>
            <a:chOff x="17640" y="1460520"/>
            <a:chExt cx="9143640" cy="3359160"/>
          </a:xfrm>
        </p:grpSpPr>
        <p:grpSp>
          <p:nvGrpSpPr>
            <p:cNvPr id="161" name=""/>
            <p:cNvGrpSpPr/>
            <p:nvPr/>
          </p:nvGrpSpPr>
          <p:grpSpPr>
            <a:xfrm>
              <a:off x="23040" y="1463760"/>
              <a:ext cx="9131040" cy="3352680"/>
              <a:chOff x="23040" y="1463760"/>
              <a:chExt cx="9131040" cy="33526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3040" y="1463760"/>
                <a:ext cx="2525760" cy="1066680"/>
                <a:chOff x="23040" y="1463760"/>
                <a:chExt cx="2525760" cy="1066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2200" y="1463760"/>
                  <a:ext cx="22870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040" y="1463760"/>
                  <a:ext cx="252576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549160" y="1463760"/>
                <a:ext cx="1320480" cy="1066680"/>
                <a:chOff x="2549160" y="1463760"/>
                <a:chExt cx="1320480" cy="1066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66760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4916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870000" y="1463760"/>
                <a:ext cx="1320840" cy="1066680"/>
                <a:chOff x="3870000" y="1463760"/>
                <a:chExt cx="1320840" cy="1066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989160" y="1463760"/>
                  <a:ext cx="1082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870000" y="1463760"/>
                  <a:ext cx="132084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191560" y="1463760"/>
                <a:ext cx="1320480" cy="1066680"/>
                <a:chOff x="5191560" y="1463760"/>
                <a:chExt cx="1320480" cy="1066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31000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19156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512400" y="1463760"/>
                <a:ext cx="1320480" cy="1066680"/>
                <a:chOff x="6512400" y="1463760"/>
                <a:chExt cx="1320480" cy="1066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631560" y="1463760"/>
                  <a:ext cx="1082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512400" y="1463760"/>
                  <a:ext cx="132048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833240" y="1463760"/>
                <a:ext cx="1320840" cy="1066680"/>
                <a:chOff x="7833240" y="1463760"/>
                <a:chExt cx="1320840" cy="1066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952400" y="1463760"/>
                  <a:ext cx="1082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833240" y="1463760"/>
                  <a:ext cx="1320840" cy="106668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3040" y="2530440"/>
                <a:ext cx="2525760" cy="762120"/>
                <a:chOff x="23040" y="2530440"/>
                <a:chExt cx="2525760" cy="762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2200" y="2530440"/>
                  <a:ext cx="2287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040" y="2530440"/>
                  <a:ext cx="252576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49160" y="2530440"/>
                <a:ext cx="1320480" cy="762120"/>
                <a:chOff x="2549160" y="2530440"/>
                <a:chExt cx="132048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66760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54916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870000" y="2530440"/>
                <a:ext cx="1320840" cy="762120"/>
                <a:chOff x="3870000" y="2530440"/>
                <a:chExt cx="1320840" cy="762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989160" y="253044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70000" y="253044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191560" y="2530440"/>
                <a:ext cx="1320480" cy="762120"/>
                <a:chOff x="5191560" y="2530440"/>
                <a:chExt cx="1320480" cy="762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1000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19156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12400" y="2530440"/>
                <a:ext cx="1320480" cy="762120"/>
                <a:chOff x="6512400" y="2530440"/>
                <a:chExt cx="1320480" cy="762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631560" y="253044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12400" y="253044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833240" y="2530440"/>
                <a:ext cx="1320840" cy="762120"/>
                <a:chOff x="7833240" y="2530440"/>
                <a:chExt cx="1320840" cy="762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952400" y="253044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833240" y="253044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040" y="3292560"/>
                <a:ext cx="2525760" cy="761760"/>
                <a:chOff x="23040" y="3292560"/>
                <a:chExt cx="2525760" cy="761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42200" y="3292560"/>
                  <a:ext cx="22870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040" y="3292560"/>
                  <a:ext cx="252576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549160" y="3292560"/>
                <a:ext cx="1320480" cy="761760"/>
                <a:chOff x="2549160" y="3292560"/>
                <a:chExt cx="1320480" cy="761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6760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54916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870000" y="3292560"/>
                <a:ext cx="1320840" cy="761760"/>
                <a:chOff x="3870000" y="3292560"/>
                <a:chExt cx="1320840" cy="761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989160" y="3292560"/>
                  <a:ext cx="1082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870000" y="3292560"/>
                  <a:ext cx="132084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191560" y="3292560"/>
                <a:ext cx="1320480" cy="761760"/>
                <a:chOff x="5191560" y="3292560"/>
                <a:chExt cx="1320480" cy="761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31000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9156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512400" y="3292560"/>
                <a:ext cx="1320480" cy="761760"/>
                <a:chOff x="6512400" y="3292560"/>
                <a:chExt cx="1320480" cy="761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631560" y="3292560"/>
                  <a:ext cx="10825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12400" y="3292560"/>
                  <a:ext cx="132048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833240" y="3292560"/>
                <a:ext cx="1320840" cy="761760"/>
                <a:chOff x="7833240" y="3292560"/>
                <a:chExt cx="1320840" cy="761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52400" y="3292560"/>
                  <a:ext cx="1082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33240" y="3292560"/>
                  <a:ext cx="1320840" cy="76176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3040" y="4054320"/>
                <a:ext cx="2525760" cy="762120"/>
                <a:chOff x="23040" y="4054320"/>
                <a:chExt cx="2525760" cy="7621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42200" y="4054320"/>
                  <a:ext cx="2287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 + P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3040" y="4054320"/>
                  <a:ext cx="252576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549160" y="4054320"/>
                <a:ext cx="1320480" cy="762120"/>
                <a:chOff x="2549160" y="4054320"/>
                <a:chExt cx="1320480" cy="762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6760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54916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70000" y="4054320"/>
                <a:ext cx="1320840" cy="762120"/>
                <a:chOff x="3870000" y="4054320"/>
                <a:chExt cx="1320840" cy="762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89160" y="405432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70000" y="405432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191560" y="4054320"/>
                <a:ext cx="1320480" cy="762120"/>
                <a:chOff x="5191560" y="4054320"/>
                <a:chExt cx="1320480" cy="762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1000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9156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512400" y="4054320"/>
                <a:ext cx="1320480" cy="762120"/>
                <a:chOff x="6512400" y="4054320"/>
                <a:chExt cx="1320480" cy="762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631560" y="4054320"/>
                  <a:ext cx="1082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12400" y="4054320"/>
                  <a:ext cx="132048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833240" y="4054320"/>
                <a:ext cx="1320840" cy="762120"/>
                <a:chOff x="7833240" y="4054320"/>
                <a:chExt cx="1320840" cy="762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952400" y="4054320"/>
                  <a:ext cx="1082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33240" y="4054320"/>
                  <a:ext cx="1320840" cy="762120"/>
                </a:xfrm>
                <a:prstGeom prst="rect">
                  <a:avLst/>
                </a:prstGeom>
                <a:noFill/>
                <a:ln w="4752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17640" y="1460520"/>
              <a:ext cx="9143640" cy="3359160"/>
            </a:xfrm>
            <a:prstGeom prst="rect">
              <a:avLst/>
            </a:prstGeom>
            <a:noFill/>
            <a:ln w="475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18960" y="5268960"/>
            <a:ext cx="8562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confidence intervals approximately 5%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of default classifier is 5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0520" y="26172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rror for Cross Subject Classifiers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166-197B-4453-BAF7-13D76AD9DB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5564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2: Word Categori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0880" y="1486080"/>
            <a:ext cx="36781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memb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p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tchen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ell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ilding pa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62440" y="1552680"/>
            <a:ext cx="36781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legged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ge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828-C753-4D90-B805-5321B1A938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ord Categories Stud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330200"/>
            <a:ext cx="84582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blocks of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name (2 se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(400 msec), Blank screen (1200 msec);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(400 msec), Blank screen (1200 msec);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 answers whether each word in categ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words per block, nearly all in categ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egory blocks interspersed with 5 fixation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BA9-9E21-4867-8407-9B4DA9E0D72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raining Classifier for Word Categories</a:t>
            </a:r>
            <a:endParaRPr b="1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165320"/>
            <a:ext cx="883908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neurologically normal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470 - 11,136 voxels per subject, 30 R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RI snapshot taken every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fMRI(t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d Categ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 metho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N, GN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one example out from each clas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VMs not tried since this is not binary class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76E-DCBE-4660-BA92-05E1DE0AF1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MRI and Cognitive Modeling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96920"/>
            <a:ext cx="91440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generative model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 state seq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verage fMR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subject-independent, gross anatomical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 subject-subject variation, trial-tri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greater precision, reverse the pred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fMRI, behavioral data, stimulus&gt; of single subject, single tria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 state se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4B6-1B10-45EC-AFC7-B2283E3169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2: Result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3920" y="1271160"/>
            <a:ext cx="81644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er outputs ranked list of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by the fraction of classes ranked ahead of tru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=perfect, 0.5=random, 1.0 unbelievably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" y="1751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4160" y="3673440"/>
            <a:ext cx="7356240" cy="1741680"/>
            <a:chOff x="884160" y="3673440"/>
            <a:chExt cx="7356240" cy="1741680"/>
          </a:xfrm>
        </p:grpSpPr>
        <p:grpSp>
          <p:nvGrpSpPr>
            <p:cNvPr id="248" name=""/>
            <p:cNvGrpSpPr/>
            <p:nvPr/>
          </p:nvGrpSpPr>
          <p:grpSpPr>
            <a:xfrm>
              <a:off x="889200" y="3675600"/>
              <a:ext cx="7344360" cy="1736280"/>
              <a:chOff x="889200" y="3675600"/>
              <a:chExt cx="7344360" cy="17362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889200" y="3675600"/>
                <a:ext cx="3048480" cy="868320"/>
                <a:chOff x="889200" y="3675600"/>
                <a:chExt cx="3048480" cy="868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000800" y="3675600"/>
                  <a:ext cx="282456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 \ Class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89200" y="3675600"/>
                  <a:ext cx="304848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938040" y="3675600"/>
                <a:ext cx="1069560" cy="868320"/>
                <a:chOff x="3938040" y="3675600"/>
                <a:chExt cx="1069560" cy="8683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049640" y="3675600"/>
                  <a:ext cx="8456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93804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008320" y="3675600"/>
                <a:ext cx="1069560" cy="868320"/>
                <a:chOff x="5008320" y="3675600"/>
                <a:chExt cx="1069560" cy="8683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19560" y="3675600"/>
                  <a:ext cx="84636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0832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078600" y="3675600"/>
                <a:ext cx="1085040" cy="868320"/>
                <a:chOff x="6078600" y="3675600"/>
                <a:chExt cx="1085040" cy="868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89840" y="3675600"/>
                  <a:ext cx="8618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78600" y="3675600"/>
                  <a:ext cx="108504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164000" y="3675600"/>
                <a:ext cx="1069560" cy="868320"/>
                <a:chOff x="7164000" y="3675600"/>
                <a:chExt cx="1069560" cy="8683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275600" y="3675600"/>
                  <a:ext cx="845640" cy="8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64000" y="3675600"/>
                  <a:ext cx="1069560" cy="86832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889200" y="4543920"/>
                <a:ext cx="3048480" cy="867960"/>
                <a:chOff x="889200" y="4543920"/>
                <a:chExt cx="3048480" cy="867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000800" y="4543920"/>
                  <a:ext cx="282456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Wor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89200" y="4543920"/>
                  <a:ext cx="304848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938040" y="4543920"/>
                <a:ext cx="1069560" cy="867960"/>
                <a:chOff x="3938040" y="4543920"/>
                <a:chExt cx="1069560" cy="8679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49640" y="4543920"/>
                  <a:ext cx="8456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3804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8320" y="4543920"/>
                <a:ext cx="1069560" cy="867960"/>
                <a:chOff x="5008320" y="4543920"/>
                <a:chExt cx="1069560" cy="8679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119560" y="4543920"/>
                  <a:ext cx="84636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832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078600" y="4543920"/>
                <a:ext cx="1085040" cy="867960"/>
                <a:chOff x="6078600" y="4543920"/>
                <a:chExt cx="1085040" cy="8679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189840" y="4543920"/>
                  <a:ext cx="8618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078600" y="4543920"/>
                  <a:ext cx="108504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164000" y="4543920"/>
                <a:ext cx="1069560" cy="867960"/>
                <a:chOff x="7164000" y="4543920"/>
                <a:chExt cx="1069560" cy="8679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275600" y="4543920"/>
                  <a:ext cx="8456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164000" y="4543920"/>
                  <a:ext cx="1069560" cy="867960"/>
                </a:xfrm>
                <a:prstGeom prst="rect">
                  <a:avLst/>
                </a:prstGeom>
                <a:noFill/>
                <a:ln w="507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884160" y="3673440"/>
              <a:ext cx="7356240" cy="1741680"/>
            </a:xfrm>
            <a:prstGeom prst="rect">
              <a:avLst/>
            </a:prstGeom>
            <a:noFill/>
            <a:ln w="507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440" y="4497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56C-70AA-415D-927B-C9F6B0B0267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3: Syntactic Ambiguit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subject reading ambiguous or unambiguous sent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perienced soldiers warned about the dangers conducted the midnight rai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perienced soldiers spoke about the dangers before the midnight rai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seconds per sentence, 4 seconds to answer, 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65-9507-4414-93E8-CCE10622F0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3: Result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subjects, 20 examples per subject (10 per cla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0 – 3508 voxels per subject, 4 R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MRI snapshot each 1.5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 fMRI(t,t+15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Ambiguous, Not Ambiguou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most random results if no feature selection 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feature selec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VM - 77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NB - 75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NN – 72%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0EC-0130-446F-872E-A83F1F4005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85960" y="1509840"/>
            <a:ext cx="77356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feature selection method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st active available voxels according to a t-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i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st active voxels in each RO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oiActiveAv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verage of the n most active voxels in each RO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 most discriminating voxels according to a trained classif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orks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7080" y="225360"/>
            <a:ext cx="8556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eature Selection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28E-99EF-4426-92A8-A5DA57CCE41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" y="-1297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640" y="1359000"/>
            <a:ext cx="9145080" cy="4730760"/>
            <a:chOff x="17640" y="1359000"/>
            <a:chExt cx="9145080" cy="4730760"/>
          </a:xfrm>
        </p:grpSpPr>
        <p:grpSp>
          <p:nvGrpSpPr>
            <p:cNvPr id="289" name=""/>
            <p:cNvGrpSpPr/>
            <p:nvPr/>
          </p:nvGrpSpPr>
          <p:grpSpPr>
            <a:xfrm>
              <a:off x="23040" y="1360440"/>
              <a:ext cx="9133200" cy="4727160"/>
              <a:chOff x="23040" y="1360440"/>
              <a:chExt cx="9133200" cy="472716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3040" y="1360440"/>
                <a:ext cx="1257120" cy="981000"/>
                <a:chOff x="23040" y="1360440"/>
                <a:chExt cx="1257120" cy="98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0760" y="1360440"/>
                  <a:ext cx="102096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ataset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040" y="1360440"/>
                  <a:ext cx="125712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280520" y="1360440"/>
                <a:ext cx="1311840" cy="981000"/>
                <a:chOff x="1280520" y="1360440"/>
                <a:chExt cx="1311840" cy="981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39824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Feature Selec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2805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593080" y="1360440"/>
                <a:ext cx="1312560" cy="981000"/>
                <a:chOff x="2593080" y="1360440"/>
                <a:chExt cx="1312560" cy="981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1080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GN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93080" y="1360440"/>
                  <a:ext cx="131256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906360" y="1360440"/>
                <a:ext cx="1311840" cy="981000"/>
                <a:chOff x="3906360" y="1360440"/>
                <a:chExt cx="1311840" cy="9810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2372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V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0636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218920" y="1360440"/>
                <a:ext cx="1311840" cy="981000"/>
                <a:chOff x="5218920" y="1360440"/>
                <a:chExt cx="1311840" cy="981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33628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2189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531120" y="1360440"/>
                <a:ext cx="1311840" cy="981000"/>
                <a:chOff x="6531120" y="1360440"/>
                <a:chExt cx="1311840" cy="9810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64884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531120" y="1360440"/>
                  <a:ext cx="131184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843680" y="1360440"/>
                <a:ext cx="1312560" cy="981000"/>
                <a:chOff x="7843680" y="1360440"/>
                <a:chExt cx="1312560" cy="9810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1400" y="1360440"/>
                  <a:ext cx="107640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N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843680" y="1360440"/>
                  <a:ext cx="1312560" cy="9810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3040" y="2341440"/>
                <a:ext cx="1257120" cy="624240"/>
                <a:chOff x="23040" y="2341440"/>
                <a:chExt cx="1257120" cy="624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40760" y="234144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ictureS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040" y="234144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280520" y="2341440"/>
                <a:ext cx="1311840" cy="624240"/>
                <a:chOff x="1280520" y="2341440"/>
                <a:chExt cx="1311840" cy="624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39824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805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593080" y="2341440"/>
                <a:ext cx="1312560" cy="624240"/>
                <a:chOff x="2593080" y="2341440"/>
                <a:chExt cx="1312560" cy="624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1080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93080" y="234144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906360" y="2341440"/>
                <a:ext cx="1311840" cy="624240"/>
                <a:chOff x="3906360" y="2341440"/>
                <a:chExt cx="1311840" cy="624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02372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90636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218920" y="2341440"/>
                <a:ext cx="1311840" cy="624240"/>
                <a:chOff x="5218920" y="2341440"/>
                <a:chExt cx="1311840" cy="624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33628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189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31120" y="2341440"/>
                <a:ext cx="1311840" cy="624240"/>
                <a:chOff x="6531120" y="2341440"/>
                <a:chExt cx="1311840" cy="624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4884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31120" y="234144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843680" y="2341440"/>
                <a:ext cx="1312560" cy="624240"/>
                <a:chOff x="7843680" y="2341440"/>
                <a:chExt cx="1312560" cy="6242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961400" y="234144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43680" y="234144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3040" y="2965680"/>
                <a:ext cx="1257120" cy="624240"/>
                <a:chOff x="23040" y="2965680"/>
                <a:chExt cx="1257120" cy="6242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40760" y="296568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040" y="296568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280520" y="2965680"/>
                <a:ext cx="1311840" cy="624240"/>
                <a:chOff x="1280520" y="2965680"/>
                <a:chExt cx="1311840" cy="6242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39824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2805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593080" y="2965680"/>
                <a:ext cx="1312560" cy="624240"/>
                <a:chOff x="2593080" y="2965680"/>
                <a:chExt cx="1312560" cy="624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71080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93080" y="29656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906360" y="2965680"/>
                <a:ext cx="1311840" cy="624240"/>
                <a:chOff x="3906360" y="2965680"/>
                <a:chExt cx="1311840" cy="624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2372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0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90636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218920" y="2965680"/>
                <a:ext cx="1311840" cy="624240"/>
                <a:chOff x="5218920" y="2965680"/>
                <a:chExt cx="1311840" cy="624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33628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2189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31120" y="2965680"/>
                <a:ext cx="1311840" cy="624240"/>
                <a:chOff x="6531120" y="2965680"/>
                <a:chExt cx="1311840" cy="624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64884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31120" y="29656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843680" y="2965680"/>
                <a:ext cx="1312560" cy="624240"/>
                <a:chOff x="7843680" y="2965680"/>
                <a:chExt cx="1312560" cy="624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961400" y="29656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43680" y="29656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3040" y="3590280"/>
                <a:ext cx="1257120" cy="624240"/>
                <a:chOff x="23040" y="3590280"/>
                <a:chExt cx="1257120" cy="624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40760" y="359028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Wor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040" y="359028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280520" y="3590280"/>
                <a:ext cx="1311840" cy="624240"/>
                <a:chOff x="1280520" y="3590280"/>
                <a:chExt cx="1311840" cy="624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39824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805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93080" y="3590280"/>
                <a:ext cx="1312560" cy="624240"/>
                <a:chOff x="2593080" y="3590280"/>
                <a:chExt cx="1312560" cy="624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71080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93080" y="35902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906360" y="3590280"/>
                <a:ext cx="1311840" cy="624240"/>
                <a:chOff x="3906360" y="3590280"/>
                <a:chExt cx="1311840" cy="624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02372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N/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90636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8920" y="3590280"/>
                <a:ext cx="1311840" cy="624240"/>
                <a:chOff x="5218920" y="3590280"/>
                <a:chExt cx="1311840" cy="624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33628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89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531120" y="3590280"/>
                <a:ext cx="1311840" cy="624240"/>
                <a:chOff x="6531120" y="3590280"/>
                <a:chExt cx="1311840" cy="624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4884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31120" y="359028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843680" y="3590280"/>
                <a:ext cx="1312560" cy="624240"/>
                <a:chOff x="7843680" y="3590280"/>
                <a:chExt cx="1312560" cy="624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961400" y="359028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43680" y="359028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3040" y="4214520"/>
                <a:ext cx="1257120" cy="624240"/>
                <a:chOff x="23040" y="4214520"/>
                <a:chExt cx="1257120" cy="624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40760" y="421452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3040" y="421452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280520" y="4214520"/>
                <a:ext cx="1311840" cy="624240"/>
                <a:chOff x="1280520" y="4214520"/>
                <a:chExt cx="1311840" cy="624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39824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2805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593080" y="4214520"/>
                <a:ext cx="1312560" cy="624240"/>
                <a:chOff x="2593080" y="4214520"/>
                <a:chExt cx="1312560" cy="624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71080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93080" y="421452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906360" y="4214520"/>
                <a:ext cx="1311840" cy="624240"/>
                <a:chOff x="3906360" y="4214520"/>
                <a:chExt cx="1311840" cy="624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02372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N/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90636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218920" y="4214520"/>
                <a:ext cx="1311840" cy="624240"/>
                <a:chOff x="5218920" y="4214520"/>
                <a:chExt cx="1311840" cy="624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33628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2189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6531120" y="4214520"/>
                <a:ext cx="1311840" cy="624240"/>
                <a:chOff x="6531120" y="4214520"/>
                <a:chExt cx="1311840" cy="624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64884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1120" y="421452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843680" y="4214520"/>
                <a:ext cx="1312560" cy="624240"/>
                <a:chOff x="7843680" y="4214520"/>
                <a:chExt cx="1312560" cy="624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961400" y="421452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1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843680" y="421452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040" y="4838760"/>
                <a:ext cx="1257120" cy="624240"/>
                <a:chOff x="23040" y="4838760"/>
                <a:chExt cx="1257120" cy="624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40760" y="483876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y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m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040" y="483876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280520" y="4838760"/>
                <a:ext cx="1311840" cy="624240"/>
                <a:chOff x="1280520" y="4838760"/>
                <a:chExt cx="1311840" cy="624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39824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2805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593080" y="4838760"/>
                <a:ext cx="1312560" cy="624240"/>
                <a:chOff x="2593080" y="4838760"/>
                <a:chExt cx="1312560" cy="624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71080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3080" y="48387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906360" y="4838760"/>
                <a:ext cx="1311840" cy="624240"/>
                <a:chOff x="3906360" y="4838760"/>
                <a:chExt cx="1311840" cy="624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02372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3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90636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218920" y="4838760"/>
                <a:ext cx="1311840" cy="624240"/>
                <a:chOff x="5218920" y="4838760"/>
                <a:chExt cx="1311840" cy="624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3628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189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31120" y="4838760"/>
                <a:ext cx="1311840" cy="624240"/>
                <a:chOff x="6531120" y="4838760"/>
                <a:chExt cx="1311840" cy="624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64884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31120" y="48387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843680" y="4838760"/>
                <a:ext cx="1312560" cy="624240"/>
                <a:chOff x="7843680" y="4838760"/>
                <a:chExt cx="1312560" cy="624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961400" y="48387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843680" y="48387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3040" y="5463360"/>
                <a:ext cx="1257120" cy="624240"/>
                <a:chOff x="23040" y="5463360"/>
                <a:chExt cx="1257120" cy="624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40760" y="5463360"/>
                  <a:ext cx="10209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3040" y="5463360"/>
                  <a:ext cx="125712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280520" y="5463360"/>
                <a:ext cx="1311840" cy="624240"/>
                <a:chOff x="1280520" y="5463360"/>
                <a:chExt cx="1311840" cy="624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39824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2805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93080" y="5463360"/>
                <a:ext cx="1312560" cy="624240"/>
                <a:chOff x="2593080" y="5463360"/>
                <a:chExt cx="1312560" cy="624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71080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93080" y="54633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3906360" y="5463360"/>
                <a:ext cx="1311840" cy="624240"/>
                <a:chOff x="3906360" y="5463360"/>
                <a:chExt cx="1311840" cy="624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372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90636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218920" y="5463360"/>
                <a:ext cx="1311840" cy="624240"/>
                <a:chOff x="5218920" y="5463360"/>
                <a:chExt cx="1311840" cy="624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33628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2189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531120" y="5463360"/>
                <a:ext cx="1311840" cy="624240"/>
                <a:chOff x="6531120" y="5463360"/>
                <a:chExt cx="1311840" cy="624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64884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531120" y="5463360"/>
                  <a:ext cx="131184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843680" y="5463360"/>
                <a:ext cx="1312560" cy="624240"/>
                <a:chOff x="7843680" y="5463360"/>
                <a:chExt cx="1312560" cy="6242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961400" y="5463360"/>
                  <a:ext cx="10764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urier New"/>
                      <a:ea typeface="Courier New"/>
                    </a:rPr>
                    <a:t>0.2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843680" y="5463360"/>
                  <a:ext cx="1312560" cy="6242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17640" y="1359000"/>
              <a:ext cx="9145080" cy="473076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440" y="7392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1440" y="195120"/>
            <a:ext cx="8556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eature Selection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610-23E6-4452-ACF3-2B163EB0BEF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training of classifiers for instantaneous cognitive state in three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subject classifiers trained by abstracting to anatomically defined R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 selection and abstraction are ess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CD4-40E0-41F4-98E2-CD66C07A6A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esearch Opportuniti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tempor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MM’s, Temporal Bayes 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ing useful data ab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A, PCA, hidden layers in Neural 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ging data from multiple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MRI, ERP, reactio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C33-FB82-43E6-8AD5-C33F760BDA38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76720" y="5110200"/>
            <a:ext cx="2666880" cy="1747800"/>
            <a:chOff x="3276720" y="5110200"/>
            <a:chExt cx="2666880" cy="17478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21668" t="47337" r="41643" b="22000"/>
            <a:stretch/>
          </p:blipFill>
          <p:spPr>
            <a:xfrm>
              <a:off x="3276720" y="5110200"/>
              <a:ext cx="26668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594760" y="5258520"/>
              <a:ext cx="341640" cy="10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3299400">
            <a:off x="5310720" y="5776200"/>
            <a:ext cx="2700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3800" y="5996160"/>
            <a:ext cx="38592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rcRect l="30418" t="19403" r="20103" b="27476"/>
          <a:stretch/>
        </p:blipFill>
        <p:spPr>
          <a:xfrm>
            <a:off x="434880" y="1077840"/>
            <a:ext cx="2687760" cy="230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3398760"/>
            <a:ext cx="2135160" cy="238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82760" y="3395520"/>
            <a:ext cx="2822400" cy="2668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710240" y="2540880"/>
            <a:ext cx="420480" cy="2444760"/>
          </a:xfrm>
          <a:prstGeom prst="downArrow">
            <a:avLst>
              <a:gd name="adj1" fmla="val 50000"/>
              <a:gd name="adj2" fmla="val 14535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09560"/>
            <a:ext cx="21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itive stat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7720" y="217440"/>
            <a:ext cx="21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itiv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8320" y="663480"/>
            <a:ext cx="1800" cy="401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895400"/>
            <a:ext cx="944640" cy="9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4640" y="3162240"/>
            <a:ext cx="236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sensors” of cogniti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99040" y="4037040"/>
            <a:ext cx="3797280" cy="3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51600" y="174600"/>
            <a:ext cx="3092400" cy="284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fMRI contain enough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devise learning algorithms to construct such “virtual sensor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113-24E6-4CEA-A598-0B47356A37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1562" t="8333" r="9376" b="3125"/>
          <a:stretch/>
        </p:blipFill>
        <p:spPr>
          <a:xfrm>
            <a:off x="198360" y="738360"/>
            <a:ext cx="3375000" cy="251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807160" y="5487840"/>
            <a:ext cx="227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rcRect l="3127" t="9376" r="8594" b="5207"/>
          <a:stretch/>
        </p:blipFill>
        <p:spPr>
          <a:xfrm>
            <a:off x="1508040" y="2233440"/>
            <a:ext cx="342576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1562" t="8333" r="8594" b="5207"/>
          <a:stretch/>
        </p:blipFill>
        <p:spPr>
          <a:xfrm>
            <a:off x="3260880" y="3659040"/>
            <a:ext cx="33210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rcRect l="17254" t="18556" r="12060" b="23158"/>
          <a:stretch/>
        </p:blipFill>
        <p:spPr>
          <a:xfrm>
            <a:off x="5033880" y="0"/>
            <a:ext cx="411012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36A-FD3F-42DF-9882-7278963937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562" t="8166" r="8594" b="5207"/>
          <a:stretch/>
        </p:blipFill>
        <p:spPr>
          <a:xfrm>
            <a:off x="0" y="23184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6E0-5E09-446F-A995-891313D458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5760" y="187200"/>
            <a:ext cx="85568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earning Virtual Sensor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2920" y="1401480"/>
            <a:ext cx="78152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 fMRI(t,t+k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gnitiv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ussian Naïve Bayes, SVM, k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per subject, per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ture selection/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subset of voxels (by signal, by anatom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subinterval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activities over space,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ize voxel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23F-9E12-480C-98C0-C292E6CFD1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tudy 1: Pictures and Sentences</a:t>
            </a:r>
            <a:endParaRPr b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30200"/>
            <a:ext cx="79455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: read sentence, view picture, answer whether sentence describes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 presented first in half of trials, sentence first in other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possible objects: star, dollar, 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ed by Just et 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DD3-C261-49AB-93FE-E384C8191C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68560" y="2819520"/>
            <a:ext cx="698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rue that the star is above the pl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CD9-500C-4919-A55D-0A98B4C613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E14-B902-4DA2-854A-63A266061F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2:10:03Z</dcterms:created>
  <dc:creator>Stefan Niculescu</dc:creator>
  <dc:description>AMIA Presentation
November 2003</dc:description>
  <dc:language>en-US</dc:language>
  <cp:lastModifiedBy>Radu Stefan Niculescu</cp:lastModifiedBy>
  <dcterms:modified xsi:type="dcterms:W3CDTF">2003-11-07T20:36:33Z</dcterms:modified>
  <cp:revision>969</cp:revision>
  <dc:subject/>
  <dc:title>Learning fMRI based sensors of cognitive states</dc:title>
</cp:coreProperties>
</file>